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94A-7AB9-4604-A328-3E6AAFA6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DAE-99F1-4497-86F3-503E74B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93C-B2EC-40D0-BB6B-6C8CF1A6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CC8-21BE-49BB-9061-509186C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ED8C-73E0-4473-A6BC-DB0B8EBD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053A-3C5E-4371-BCE6-1109A67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BBA7-95FE-42DF-948C-46FAF3D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9D92-7978-4A8B-B059-39683D13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CC2-1A19-46C6-BD2E-8501546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E87-FAE4-4E7F-99C4-08230D79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3A1-E668-4534-AEF3-67054A4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3F4-EBDE-47F5-8B60-2913645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958F-AE58-404F-83FA-F6F0224F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5E13-C04B-4BB1-94A3-FA8E4D5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310C-E4C7-4ED8-91EC-EC00C93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39CD-665A-41E5-B6BB-20DC5D4A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B371-6B50-450A-BCBF-54C117B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147-0306-480A-98BF-456B35E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26A-EBFB-4FCB-A27A-37E300AB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054-72B2-46F0-94CD-18FA570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192-F3EA-484F-A6CF-43FC5B55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C2F-FC52-4228-B59C-9C891A7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A5A-E2BA-4E4A-ADC6-2B337159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53E-5646-4EE6-BE0A-B72014F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311D-EE60-4FF8-A53C-EA5DFCB8DF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96F-BBFF-4AFE-BFBD-3E98C18161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eb.mit.edu/invent/iow/skateboard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 rot="20290800">
            <a:off x="167760" y="-58680"/>
            <a:ext cx="629784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kateboared</a:t>
            </a:r>
            <a:endParaRPr b="0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840200"/>
            <a:ext cx="1524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y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\27\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1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vented by: Alan Ollie Gelf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 Skatebo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kateboard was originally known as surfing out of wat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boarding has recently made a comeback as both a comeback and a pastime spo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st topped rated spo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ds attached roller skates onto wood boar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n’t un’till 1958 that the modern skateboard was develop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Alan Ollie Gelf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named the skateboard trick ‘Ollie” after himsel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an was born 19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more than one person who came up with the idea but he was the one to name it and publish the skateboa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an has been notice for the trick Ollie more then creating the skate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first came up with a piece of wood and tied skates to the wood before he had the skateboard we have n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Skateboard"/>
          <p:cNvPicPr/>
          <p:nvPr/>
        </p:nvPicPr>
        <p:blipFill>
          <a:blip r:embed="rId1"/>
          <a:stretch/>
        </p:blipFill>
        <p:spPr>
          <a:xfrm>
            <a:off x="0" y="0"/>
            <a:ext cx="769608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Eric Dressen bluntsiding on skateboard"/>
          <p:cNvPicPr/>
          <p:nvPr/>
        </p:nvPicPr>
        <p:blipFill>
          <a:blip r:embed="rId2"/>
          <a:stretch/>
        </p:blipFill>
        <p:spPr>
          <a:xfrm>
            <a:off x="0" y="2819520"/>
            <a:ext cx="457200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Daniel Haney 50/50-ing on skateboard"/>
          <p:cNvPicPr/>
          <p:nvPr/>
        </p:nvPicPr>
        <p:blipFill>
          <a:blip r:embed="rId3"/>
          <a:stretch/>
        </p:blipFill>
        <p:spPr>
          <a:xfrm>
            <a:off x="7715160" y="0"/>
            <a:ext cx="1428840" cy="276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8320" y="304812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– MIT Program,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skatebo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\29\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eb.mit.edu/invent/iow/skateboa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0:46Z</dcterms:created>
  <dc:creator>install</dc:creator>
  <dc:description/>
  <dc:language>en-US</dc:language>
  <cp:lastModifiedBy>install</cp:lastModifiedBy>
  <dcterms:modified xsi:type="dcterms:W3CDTF">2010-10-14T17:29:17Z</dcterms:modified>
  <cp:revision>18</cp:revision>
  <dc:subject/>
  <dc:title>Slide 1</dc:title>
</cp:coreProperties>
</file>